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A87-3100-4647-AC02-620580D3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EF6-13B5-4CAA-9B38-3A1B7801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5F2-781D-4215-AD24-D4F0F9DD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E05-097D-4FB2-8E75-15DA9790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44F-6F7E-4979-B32C-63CB1A7B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00E-F277-462F-A7F0-1B1998CF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5BC-6998-4D46-8CBE-988A39D7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CE0-26A7-4382-BB9C-A09F8D1B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AEE-894F-4DDA-92B0-B5CD4713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8A1-0E4F-4ACE-B1DC-4BB18C6C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CC2-9624-4EE6-B5D9-7F82F156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11D-AF69-4472-BA8A-1CB82780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774-03E0-45A5-A540-6B914D70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304920"/>
            <a:ext cx="0" cy="617220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ve Us A K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nited Kingdom, 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6:37-38; 7:51-10: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23-1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049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he Temple Is Fini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omon Builds His Palace Complex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7:2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uilt his own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0 feet long; 75 feet wide; 45 feet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k 13 years to bu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ls made of cut stones; beams, posts and roof made of ce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uilt a court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ne made of ivory and gold; lions on each armrest and on each side of the six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Kings 10:18-20  &amp;  2 Chron. 9:17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uilt a house for Pharaoh’s 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gh Point in Israel’s Hi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d blessed them grea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 was on all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gnificent temple was fin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were serv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y was at it’s larges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rich beyond compreh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ere prosperous and ha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, the most powerful nation at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839080" cy="4552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k Brought to the Templ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1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over 7 years to build the temp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6:37-3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treasures placed in the temple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:5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k, with the covenant, and holy vessels brought to the temple during a fest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less sacrifices made by the pri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k was set in the Most Holy Place under the wings of the two cherub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ite singers sang; priests blew trump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Chron. 5:12-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dication of the Templ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1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smoke filled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e same effects with the tabernacle; Exodus 40:34-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spoke to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cknowledged God’s pres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d the fulfillment of God’s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ed up a very appropriate pr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omon’s Prayer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22-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ed for mercy and intervention of God when people pray toward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situations mentio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aths when one word against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f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r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a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tra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b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omon Blessed the Peopl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54-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had given them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e word of His promise to Moses fa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Him not leave us nor forsake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e turn our hearts to seek Him a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God hear our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Solomon exhorted them to keep all the commandments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al Sacrifices Offered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62-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fire came from heaven and consumed the offerings and sacrific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Chron. 7:1-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e same effects with the tabernacle (Lev. 9:23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umbers of sacrifices were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celebration took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me from all over Can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estival lasted for 7 days in addition to the Feast of the Taberna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28:20Z</dcterms:created>
  <dc:creator>Frank D Vines</dc:creator>
  <dc:description/>
  <dc:language>en-US</dc:language>
  <cp:lastModifiedBy>Frank D Vines</cp:lastModifiedBy>
  <dcterms:modified xsi:type="dcterms:W3CDTF">2005-08-14T13:33:21Z</dcterms:modified>
  <cp:revision>14</cp:revision>
  <dc:subject/>
  <dc:title>“Give Us A King” The United Kingdom, Part 2</dc:title>
</cp:coreProperties>
</file>